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4A8606A-5C63-42A5-A7EB-B58BC54E3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0C57FC7-8792-475F-B6C8-9D9B21136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0B54792-0DD2-4C52-8F2A-305A3DD66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B4557BF-E71B-4DC6-BD5F-DF5426C92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80F9363-A3BC-4EC3-A456-532AD95C9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A56BAC5-F095-451F-9CDD-A94F27CF7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D4C692F-F534-4719-83C5-BFD2B0453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84A382A-982F-4C76-B2CB-5FB1F521E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6C49023-3053-490E-9E45-78FB11928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179E9EB-AA47-42B0-8621-B91AD7D6A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D6DC-0038-4236-B6FA-898BE2843AFC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 &amp; Agend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e-requi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ttendees are expected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familiar with the CIS/2 documen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their own Laptop PC with CDROM driv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eferably with their potential CIS/2-conformant application install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detailed documentation for their native data structur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experienced software developer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a detailed understanding of the native data structures of their applica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discuss what progress they have m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 what difficulties they have encountered during their translator developmen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 of the worksho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quip each of you with the knowledge necessary to implement CIS/2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effectively pursue and complete translator development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is workshop will have interactive environment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cluding discussions, question &amp; answer sessions, tutorials and workshop session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translates to a great deal of hands-on experien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articip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The success of this workshop depends upon the participation of each attendee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day is packed with information and exercis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y to endure thi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 as involved as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sk as many questions as you lik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on't leave this workshop with questions unanswered!!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1 - Mon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3" name="Object 3" descr=""/>
          <p:cNvPicPr/>
          <p:nvPr/>
        </p:nvPicPr>
        <p:blipFill>
          <a:blip r:embed="rId1"/>
          <a:stretch/>
        </p:blipFill>
        <p:spPr>
          <a:xfrm>
            <a:off x="115920" y="762120"/>
            <a:ext cx="8875800" cy="54608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2 - Tu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Object 3" descr=""/>
          <p:cNvPicPr/>
          <p:nvPr/>
        </p:nvPicPr>
        <p:blipFill>
          <a:blip r:embed="rId1"/>
          <a:stretch/>
        </p:blipFill>
        <p:spPr>
          <a:xfrm>
            <a:off x="192240" y="762120"/>
            <a:ext cx="8875440" cy="5476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3 - Wedn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7" name="Object 3" descr=""/>
          <p:cNvPicPr/>
          <p:nvPr/>
        </p:nvPicPr>
        <p:blipFill>
          <a:blip r:embed="rId1"/>
          <a:stretch/>
        </p:blipFill>
        <p:spPr>
          <a:xfrm>
            <a:off x="115920" y="741240"/>
            <a:ext cx="8875800" cy="5507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4 - Thur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Object 3" descr=""/>
          <p:cNvPicPr/>
          <p:nvPr/>
        </p:nvPicPr>
        <p:blipFill>
          <a:blip r:embed="rId1"/>
          <a:stretch/>
        </p:blipFill>
        <p:spPr>
          <a:xfrm>
            <a:off x="268200" y="1019160"/>
            <a:ext cx="8607600" cy="5153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5 - Fri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" name="Object 2067" descr=""/>
          <p:cNvPicPr/>
          <p:nvPr/>
        </p:nvPicPr>
        <p:blipFill>
          <a:blip r:embed="rId1"/>
          <a:stretch/>
        </p:blipFill>
        <p:spPr>
          <a:xfrm>
            <a:off x="268200" y="846000"/>
            <a:ext cx="8607600" cy="5241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4:49:4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23Z</dcterms:modified>
  <cp:revision>7</cp:revision>
  <dc:subject/>
  <dc:title>CIS/2 Implementation Workshop III,  3-7 April 2000, Ascot</dc:title>
</cp:coreProperties>
</file>